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382F-47F9-4B3E-9015-FBF8AE85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7A0A-1BEB-4329-88C5-67ABB593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254-3B91-4102-8B91-2FB376E5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4BC-A759-400D-ABAB-FC9F8A56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71B-A0A1-4E83-B1B7-E26B8245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33B-CF65-4C08-9CDD-F7E6E501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1CE-2ADE-4BB2-806C-A5A84B65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AC3-A632-4B18-BB72-BC0D9B25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B3E-8C61-4C90-9164-59C487DA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DF6-563E-41B1-83B3-DA6004E7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506-A4A2-4645-AA3A-5C5FF480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304-BF18-43A4-99EC-A7407D47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D2A-6DD6-442F-8681-7277555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A65-08DC-4448-BC61-281AEE4B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6BF6-B577-4BB5-81AE-6A677422F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800000"/>
                </a:solidFill>
                <a:latin typeface="Times New Roman"/>
              </a:rPr>
              <a:t>Az ünnep általános jellemz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609480" y="1523880"/>
            <a:ext cx="7925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Szakaszai, kötelező elem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eofita tisztaságának deklarál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gi státustól való szimbolikus elhatárolódás (elválasztás, eltávolít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eofita alkalmasságának deklarálása: próbák, feltámadás a káosz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új státus szimbolikus megerősítése (beépít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enttel való találkozás, a Szenthez való odatartozás kinyilván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zdeti aranykori állapot jövőbe transzponá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380880"/>
            <a:ext cx="80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ünnep tartalma (4)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 Az átmenet ünnep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380880"/>
            <a:ext cx="80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ünnep tartalma (5)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 A személyiség ünnep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9907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osztmodern ember fő jellemzője: az egyetemes közösségi értékek helyett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egyén kerül az értékrend középpontjáb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„az a jó, ami nekem jó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38080" y="2209680"/>
            <a:ext cx="731520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világ egyetlen stabil pontot kínál az egyénnek: önmagát. Az Én válik a végső vonatkoztatási ponttá. Jobb híján az ember önmaga köré rendezi a világát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Tomka Miklós, 2001. 422.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individuum biográfiáját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ép élet projektjéne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megvalósítása vezeti. Mihez van kedvem? Mi hoz hasznot számomra? Mi tesz engem boldoggá? – ezek a kérdések foglalkoztatják az ember a vallásosságban is. Ezért nagyvonalúan válogat, belekap egy kicsit ide, egy kicsit oda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inden tortáról csak a hab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akarja. Vallásosságának nem létezik egy bizonyos forgatókönyv szerinti kivitelezése, hanem – mivel az élménytapasztalatok önhasznú gyűjtése képezi élete főmotívumát – vallásos érzése kiszámíthatatlan, spontán, éppúgy, mint élete más területe is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Diósi Dávid, 2012. 82-83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3520" y="533520"/>
            <a:ext cx="815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Következmény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gyén ünnepeinek előtérbe kerülése (pl. születésn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éni vallásos hit, egyéni ünneplési gyakorlatok: az értékek pluralizmusa („a magam módján vagyok vallásos”, „a magam módján ünnepelek”, „az én kinyilatkoztatásom” stb.), valláspótlékok, ezotéria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agyományos ünnepek funkcióváltása (karácsony, Valentin-nap, Halloween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azon ünnep változatai, jelentései (pl. márc. 15. Kolozsvá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nneplés inkább személyes, családi körben zajlik, a hiteles nagy közösségi ünnepek megritkul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tikai értékszempontok helyébe esztétikai értékszempontok lépnek: „a szép, kellemes élet projektje” (pl. a halál higienizálása, letagadása, a szupermarket ünnepi világa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ektronikus médiumok ünneplési gyakorlata irányadó minta (pl. lakodalmi szokások, ajándéktárgyak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8580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0000"/>
                </a:solidFill>
                <a:latin typeface="Arial"/>
              </a:rPr>
              <a:t>Az ünnep örö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04920" y="51814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Nem szomorúságra vagyunk teremtve, hogy folyton csak dolgozzunk, a törvényeknek engedelmeskedjünk és küzdjünk. Valamennyien menyegzős lakomára vagyunk hivatalosak... Ünnepeink apró visszfényei az örök ünnepnek − annak a menyegzős lakomának, amelyre mindnyájan hivatalosak vagyunk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Jean Vanier katolikus filozófus, idézi: Mohay 2008. 15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600200"/>
            <a:ext cx="716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én szilárd határai az ünnepben megszűnnek (zene, tánc, italozás, humor, vidámság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ézus első csodájának célja nem gyógyítás volt, hanem vigadozás, egy családi ünnep kereteinek biztosítása, ami az utolsó vacsora előképe lett (Kánai menyegző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nnyországban örök ünneplés, vigadozás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hér gyász: a halál mint ünnepi találkozás, öröm, allel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fehér gyász a népi kultúrá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Stuart Mária gyásza (1559, 15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09480" y="990720"/>
            <a:ext cx="74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nnep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vigadozás: a pozitív jövőkép örömtelivé teszi az ünnep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609480" y="8380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ész a lélek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eg a test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örvend a lé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gan várja az angyal, hogy bévezess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oldog mennyországb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nnyország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usz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09480" y="205740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enyország kapuja kinyittati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okolnak az ajtója bézárati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ikor kész a lélek, beteg a te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igan várják a mennyei szen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örökkévaló bodogság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Magyarfal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09480" y="3886200"/>
            <a:ext cx="510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Organának háram ága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magas mennek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angosság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yujcs kezet Bódogságos Szizmár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t most menünk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szent lát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ök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endég foga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észen az aran há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özepibe aran szé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ba üle asszonyunk Szizmá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Káko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86880" y="304920"/>
            <a:ext cx="60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halál mint ünnep: a mennyei örök vendég érek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1066680"/>
            <a:ext cx="716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z ünnep az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ranyko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egteremtése, kilépés a profán világból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, a lét metafizikai kerete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k megtapasztalása. Ezért bőség, pazarlás jellem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éldá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ősegyházban a vasárnapi böjtölés bűn v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etnámi brú törzsnél a gyógyításkor is lakomáznak (Vargyas Gáb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árai Sándor: Az ünnepekről. In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üves könyv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1943. 79-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3520" y="228600"/>
            <a:ext cx="70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0000"/>
                </a:solidFill>
                <a:latin typeface="Arial"/>
              </a:rPr>
              <a:t>Az ünnep </a:t>
            </a: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ésszerűtlen</a:t>
            </a:r>
            <a:r>
              <a:rPr b="1" lang="hu-HU" sz="2400" spc="-1" strike="noStrike">
                <a:solidFill>
                  <a:srgbClr val="800000"/>
                </a:solidFill>
                <a:latin typeface="Arial"/>
              </a:rPr>
              <a:t>, orgiasztikus jelleg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4038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z ünnep „ésszerűtlen”: nincs evilági vonatkozása. Az ünnep rítusai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em instrumentális jellegű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 szent rituális cselekvésnek nincs közvetlen hatása a külvilágra (pl. a rituális étkezés elsősorban szent rítus, és csak másodsorban táplálkoz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62120" y="685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914400"/>
            <a:ext cx="701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a az ünnep elérkezik életedben, akkor ünnepelj egészen. Ölts fekete ruhát. Keféld meg hajad vizes kefével. Tisztálkodj belülről és kívülről. Felejts el mindent, ami a hétköznapok szertartása és feladta. Az ünnepet nemcsak a naptárban írják piros betűkkel. ... Az ünnep a különbözés. Az ünnep a mély és varázslatos rendhagyás. Az ünnep legyen ünnepies. Legyen benne tánc, virág, fiatal nők, válogatott étkek, vérpezsdítő és feledkezést nyújtó italok. S mindenekfölött legyen benne valami a régi rendtartásból, a hetedik napból, a megszakításból, a teljes kikapcsolásból, legyen benne áhítat és föltétlenség. Az ünnep az élet rangja, felsőbb értelme. Készülj fel reá testben és lélekben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Márai Sán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143000" y="1295280"/>
            <a:ext cx="73152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ünnep hierarchikus szerkezet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nnepekben hangsúlyos az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értéktartalo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Az ünnepnek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van eszmei középpontj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ből az ünnep minden eleme eltérő mértékben részes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éld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sztvevők hierarchiája (ki milyen mértékben képviseli az ünnep lényegét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a az egyházi év is hierarchikus szerkezetű. (Lásd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ábr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EJH13"/>
          <p:cNvPicPr/>
          <p:nvPr/>
        </p:nvPicPr>
        <p:blipFill>
          <a:blip r:embed="rId1"/>
          <a:stretch/>
        </p:blipFill>
        <p:spPr>
          <a:xfrm>
            <a:off x="0" y="-235080"/>
            <a:ext cx="9144000" cy="74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57200" y="76212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ünnep az igazi, autentikus id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dőt az ünnepek tagolják a paraszti kultúrá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dőt számon tartani az értelmiség feladata (pap, deák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gazdálkodás fő eseményeit az ünnepi idő tagolja (pl. pásztorfogad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mberélet eseményeit az ünnepi időhöz igazítj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80880" y="38862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hétköznapot is beragyogja az ünnep fénye, megszentelőd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reszténységben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 a történelmi idő is belépett a szent időbe: „Az Ige testté lett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ember munkáját a bűnbeesés óta fáradság és veríték kíséri. Nem a munka a büntetésünk tehát, csupán a munka terhe és verítéke. A munka isteni eredete és természete azóta sem módosult, csupán elnehezedett a munkánk, ahogy értelmünk és természetünk elnehezedett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Pilinszky Já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ert aki nem tudná, a Jóisten a világon a legmagasabb rendű munkát végzi, vagyis szőlőműves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Hamvas Bél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8088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0000"/>
                </a:solidFill>
                <a:latin typeface="Arial"/>
              </a:rPr>
              <a:t>Az ünnep szemben áll a hétköznap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57200" y="2438280"/>
            <a:ext cx="83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oralitásban van mindennapi és ünnepi kommunikáció: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kulturális kétidejű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étezik, de ez a kettő összetartozik. Igazából csak az ünnep rendje létezik, az ad értelmet a hétköznapoknak. A legprofánabb cselekvés is szertartásos, ünnepi, számot tart a maradandóságra. (vö. Platón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örvény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653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28600" y="30492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ivatkozott könyvés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ÓSI Dá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12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gyház és posztmoder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Korunk vallásossága és esztétizáló hajlama. Budapest−Kolozsvár, Szent István Társulat−Verb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IADE, Mirc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7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épek és jelképek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udapest, 1997. (Eredeti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mages et symbo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s. Essais sur le symbolisme magico‑religieux. Paris, Gallimard, 1952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SSER, Vil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Ünnepelni. In: Uő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technikai képek mindensége fel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NKISS Elemé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6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élelmek és szimbólum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Egy civilizációelmélet vázlata. Budapest, Osiris Kiad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ÉNYI Ká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4 Az ünnep lényege. I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lhatatlanság és Apollón‑vall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udapest, 333–3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ZEG Vil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Az ünneplő Torda. Az ünneplés alkalmai és terei egy kisvárosban. In: Pócs Éva (szerk.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ítus és ünnep az ezredfordul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udapest. L’Harmattan Kiadó, 21−4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ZEG Vilmos−POZSONY Ferenc−TÖTSZEGI Tekla (szer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fiatalok vasárnapja Európáb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Kolozsvár, BBTE − Magyar Néprajz és Antropológia Tanszék−Kriza János Néprajzi Társa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533520" y="228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0000"/>
                </a:solidFill>
                <a:latin typeface="Arial"/>
              </a:rPr>
              <a:t>Az ünnep ritualizá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2120" y="914400"/>
            <a:ext cx="754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rít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lat. ritus = ’vallásos szokás’) szó tágabb jelentése: ’jelentést hordozó, repetitív és formális cselekvéssor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hasem a technikai műveleten van a hangsúly, hanem mindig a jelenté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ent rítu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szekuláris jelent összeköti a teremtés kezdeti erőiv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A rítus tehát kapcsolatot teremt az őseredeti mítosszal, ami erkölcsi instanciákat tartalma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entáldozás (eukarisztia, úrvacsora) rítusa összekapcsol egy vallásos spirituális eszmeiség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gyógyító rítusok összekapcsolnak a természet vagy a szellemek őserő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zarándoklat (via sacra) az égi haza fele tartó örök út imitációja és egyszersmind megvalósu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allásos kultuszokban az egykori szent rítusok elbeszélése maga is rituális cselekmény  stb. (pl. a profán ünnepek emlékezési gyakorlatai ritualizáltak: a rítus keretében el kell hangoznia a szent történet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609480" y="533520"/>
            <a:ext cx="723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ünnep rituális kinyilvánításának mód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990720" y="15238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04920" y="1066680"/>
            <a:ext cx="86868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cselekvés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szimbolikus jelentőségű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tér- és időszerkez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nneplésben visszatér a szent kezdet ideje, ezért a szent mítoszok nem beszélhetők el akármikor, hanem csak az ünnep keretei között (pl. a bibliai előidő felidézése a népi dramatikus játékokb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tárgyi kellékek, ünnepi öltö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 ruhában régen először templomba men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n-e rajta „mennyegzős ruh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sz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 kimondott szó a jelenbe hozza múl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ibliai előidő jelentősége a folkló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pikus ráolvas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 lakodalom költész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politikai emlékünnepségek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gond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émán végzett 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ógyítás gondolat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066680" y="41911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066680" y="1219320"/>
            <a:ext cx="739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személyes jelenl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ember részéről teljes önátadást igényel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elsietett ünnep nem ünne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„a lényegen ott lenni?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levíziós, rádiós mise nem érvén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ommunizmus idején szervezett folklórfesztiválok igazi ünnepi része a résztvevők spontán találkozása, tánca, közös éneklése volt (Zelnik József) (→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özös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09480" y="30492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ünnep közösségeket terem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38080" y="762120"/>
            <a:ext cx="7315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nnep jelentése eszmei érték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az egész közösség elism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ítusnak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özösségteremtő funkci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 va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kodifikálja az összetartozá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28600" y="1905120"/>
            <a:ext cx="8381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enttel szembeni viselkedést kollektíven érvényes szabályok határozzák meg. A rítus elutasítása a közösség elutasítása.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éldáu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egymás vállára tett kéz, összekapcsolt mutatóujj, közös étkezés, italozás, tánc, öltözet, jelvények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ítusgyakorlás során létrejön az erkölcsi közösség. „Az ünnep a szeretet örvendezése.” (Aranyszájú Szent Ján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nnepre szóló meghívó a közösségbe szól. Valakit ünnepelni hívni tisztesség, elfogadni is tisztessé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degen nem lehet az ünnep rész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érthetők-e mások ünnepei? („Ezek itt miért tapsolnak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ksztatikus „közösségi” élmények (pl. a szekták ún. „evangelizációi”, samanisztikus jellegű eksztázisok stb.) teremtenek-e valódi közösségek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762120" y="68580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 karneváli ünnepl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19320" y="1981080"/>
            <a:ext cx="70866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elen központúság: öröm, fogyasztás (étel, ital, szexualitás, tánc, zene) → a profán ünnep anomál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sszatérés a kezdet előtti őskáoszhoz: zűrzavar, elveszett formák (pl. szavak inváziója, maszk, metamorfózis, társadalmi szerepváltások, nemi státus bizonytalansága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szmei értékhiány (illetve az én, a  jelen apoteózi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ent érvénytelenítése (kiforgatott liturgia, obszcenitás, a démoni erők elszabadulása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etemes jelleg: a határok eltűnése (tér, idő, szereplők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90720" y="1600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karneváli világkép fő elem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609480" y="152280"/>
            <a:ext cx="739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 mai kor karneváli világképe: az állandó ünn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219320" y="1143000"/>
            <a:ext cx="693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a a gótikus korszak volt a feudális korszak szimbolikus építménye, az ipari korszaké meg a gyár, akkora mai idők megkülönböztető struktúráj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a szórakozópark, s talán még inkább a fogyasztás karneválja: a bevásárlóközpont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Hankiss Elemér, 2006. 171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69320" y="609480"/>
            <a:ext cx="75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értékrend középpontjában az én áll: az ünneplés az egyén ünne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2895480"/>
            <a:ext cx="76201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bevásárlóközpo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Sátán ünn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fán világ ellenlábasa: a mennyei Jeruzsá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őség, tisztaság, béke, otthonosság, örök tavasz 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állt id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győzött halál: az örök visszatérés forgat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örök farsang víziója, a fogyasztás egyetemessé vá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itok, a varázslat vonzó, barátságos, nem fenyegető (pl. masz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ben áll a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démoni jelleg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? 1. a szenvedés, a halál, a bűn letagadása  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váltás (Isten) nem szükséges 2. a személyiség megsemmisítése, szétszór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124080" y="1676520"/>
            <a:ext cx="57913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800000"/>
                </a:solidFill>
                <a:latin typeface="Arial"/>
              </a:rPr>
              <a:t>Összefoglalás hely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»A betű öl, a lélek pedig éltet.« (2Kor 3,6) A betű által halnak meg azok, akik csak a szavakat akarják megismerni, hogy így bölcsebbnek tűnjenek fel másoknál. […] A betű megöli azokat a szerzeteseket, akik a Szentírás szellemét nem akarják követni, akik csak arra törekszenek, hogy minél több szót ismerjenek, és azokat mások számára értelmezzék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zent Ferenc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telm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ssisi_szent_ferenc"/>
          <p:cNvPicPr/>
          <p:nvPr/>
        </p:nvPicPr>
        <p:blipFill>
          <a:blip r:embed="rId1"/>
          <a:stretch/>
        </p:blipFill>
        <p:spPr>
          <a:xfrm>
            <a:off x="457200" y="457200"/>
            <a:ext cx="18590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80880" y="304920"/>
            <a:ext cx="8534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T Ern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Emlékezet és felejtés, avagy a halál három kalapja. In: Uő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z antropológia keresé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Válogatott tanulmányok. Budapest, L’Harmattan−MTA Néprajzi Kutatóintézet, 163−1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ÓT Ká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0 Rítus és ünnep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hnograph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. 143–18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OHAY Ta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8 Töredékek az ünnepről. In: Uő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öredékek az ünneprő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Budapest, Nap Kiadó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−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ÍRI Ta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5 Homo Festivus. In: Szennay András (szerk.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égi és új a liturgia világáb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udapest, Szent István Társulat, 138–15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ÓCS Éva (szer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ítus és ünnep az ezredforduló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dapest, L’Harmat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OMKA Mikló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 Hagyományos (vallási) értékek a modern társadalomban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ducatio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3. 419−4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EBÉLYI Kincs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Hogyan értelmezhetők a rítusok? In: Barna Gábor−Gyöngyössy Orsolya (szerk.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ítus és ünn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ite and Feast. Szeged, Néprajzi és Kulturális Antropológiai Tanszék (Szegedi Vallási Néprajzi Könyvtár 25.), 15−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57200" y="4572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Homo festivus: az ünneplés igénye ontológiai lény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3440" y="1371600"/>
            <a:ext cx="74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den emberbe bele van oltva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ünneplés igénye és képesség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3880" y="2133720"/>
            <a:ext cx="66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éldá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Papapa Jézusnál van, ezt ünnepeljük meg!” (Mohay 2008.5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entmise a kommunista börtönökben (P. Ferencz Ervin OFM emlékezé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sék, románcok a haláltáborokban (Eliade 1952/1997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066680" y="5029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nneplé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szocializációs gyakorl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minden kultúra megtanítja a fiatalokat ünnepeln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838080" y="38088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Miért ünnepelün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09480" y="1143000"/>
            <a:ext cx="792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ünnep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integrálódás a kozmikus (örök) időbe: égi születés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 mitikus kezdet megjelenítése a rítusokban (a determinatív kezdet ere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hit az ünnep tartalmá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a pozitív jövőkép, a bizako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371600" y="4191120"/>
            <a:ext cx="6172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éldá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lálévfordulók: égi születésnap ünnep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évnapok: a patrónus névünnepe (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apítások ünnepei (aug. 20, városnapok, falunapok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57200" y="91440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lapszó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*i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*igy (’szent’ ’magasztos’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Jelentésfejlődés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*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*igy + n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ünnep (’szent nap’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*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*ügy + ház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egyház (’szent templom’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zentegyház (’szent templom’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nyaszentegyház (’egyházszervezet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ö.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entegyház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iskunfélegyház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eresegyház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*i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id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i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üll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(meg)ül (’szent ünnepet ül/tart’, ’lakomázik’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ö.: „ülő ünnep”, „tort ül”, „korán ülték meg a húsvétot”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További származékszók: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üdv, üde, üdü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Megjegyzés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Nem azonos az ismeretlen eredetű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ül (’függőleges testének megtámasztott alsó részére helyezkedik’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vunkkal! Ennek származékszavai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ücsörö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üldö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üll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73800" y="26820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0000"/>
                </a:solidFill>
                <a:latin typeface="Arial"/>
              </a:rPr>
              <a:t>Az </a:t>
            </a:r>
            <a:r>
              <a:rPr b="1" i="1" lang="hu-HU" sz="2400" spc="-1" strike="noStrike" u="sng">
                <a:solidFill>
                  <a:srgbClr val="800000"/>
                </a:solidFill>
                <a:uFillTx/>
                <a:latin typeface="Arial"/>
              </a:rPr>
              <a:t>ünnep</a:t>
            </a:r>
            <a:r>
              <a:rPr b="0" lang="hu-H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800000"/>
                </a:solidFill>
                <a:latin typeface="Arial"/>
              </a:rPr>
              <a:t>szó etimológiá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3520" y="6172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vetkeztetés: </a:t>
            </a:r>
            <a:r>
              <a:rPr b="1" lang="hu-HU" sz="2000" spc="-1" strike="noStrike">
                <a:solidFill>
                  <a:srgbClr val="800000"/>
                </a:solidFill>
                <a:latin typeface="Arial"/>
              </a:rPr>
              <a:t>az ünnep találkozás a Szentt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62120" y="3808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ünnep tartalma (1)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Kozmikus, mitikus-vallásos tartalm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6212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első ünnepek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ermészet ünnepe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téli napforduló, tavaszünnepek, nyári napéjegyenlőség, termésünnepek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609480" y="1371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ermészeti ünnepek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cionalizálódá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z ünnep átértelmeződik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llásos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ektuális tartalm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n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380880"/>
            <a:ext cx="80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ünnep tartalma (2)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 Intellektuális vallásos tartalm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219320" y="2438280"/>
            <a:ext cx="506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éldáu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űntől val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adu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támad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örök 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áldozat kényszerítő ereje (pl imitatio Chri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llásos tisztelet, hód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04920" y="38088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ünnep tartalma (3)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 Közösségi ünnep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0880" y="2743200"/>
            <a:ext cx="7696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gyetlen kultúra sem bírja ki, hogy nemzedékeken keresztül másra emlékezzenek az emberek a magánéletükben, családi körben, mint amire a hivatalos elvárások emlékezni kényszerítik őket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Kunt Ernő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mlékezet és felejtés, avagy a halál három kalapj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2003.177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ünnepet nem lehet kitalálni, az ünnepet csak kapni lehet, ahogy a csillagképeket is kaptuk a teremtés kezéből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Pilinszky Já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tömegeket egyedül vallásellenes propagandával […] nem szabadíthatjuk meg vallásosságuktól, ehhez az életmód, a szórakozás új formáira, új és civilizált színpadiasságra van szükség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Lev Davidovics Trockij 1917-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992520" y="1143000"/>
            <a:ext cx="47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rténelmi emlékünnep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ulturális emlékünnep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ézményi ünnepek (pl. oktatás, sport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915120" y="2209680"/>
            <a:ext cx="50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ért emlékezünk a közösségi ünneplésb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09:12:56Z</dcterms:created>
  <dc:creator>Tánczos Vilmos</dc:creator>
  <dc:description/>
  <dc:language>en-US</dc:language>
  <cp:lastModifiedBy>Tanczos</cp:lastModifiedBy>
  <dcterms:modified xsi:type="dcterms:W3CDTF">2014-11-25T06:21:38Z</dcterms:modified>
  <cp:revision>44</cp:revision>
  <dc:subject/>
  <dc:title>Az ünneplő ember</dc:title>
</cp:coreProperties>
</file>