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207-4D8C-4E5E-A710-2C2FBA7E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48D-8148-41FE-9A62-56366126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2D6-6771-4477-9614-38A54CB9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1FF-B727-4DE1-B77B-DE7FEA53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417F-A384-42BC-BDE5-3FB969FA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44B-ED40-4886-97DF-358DDDD3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CAC-312E-420D-8A4E-60A7C34D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7DA-D1E8-43F0-A7E6-C6B83F21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EC0-660C-47F5-90F2-3844EE83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F45-1628-40CD-8DE6-5CE625CE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36E-04C3-4FD0-A5F6-85239B90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795-F738-474C-B872-08862F6D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C875-46C0-4E5E-9907-2A92908E4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3520" y="914400"/>
            <a:ext cx="830556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hu-HU" sz="3600" spc="-1" strike="noStrike">
                <a:solidFill>
                  <a:srgbClr val="990033"/>
                </a:solidFill>
                <a:latin typeface="Arial"/>
              </a:rPr>
              <a:t>z imitatio Christi és műfaj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295280" y="762120"/>
            <a:ext cx="5410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Eredj, Szent Lukács évangélis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hirdessed ezt a keves imádságunko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i elmondja mindennap, de kiváltképpen péntek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em küdöm angyalomo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em küdöm apostolomo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én mejek ezer meg ezer angyalv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ezer meg ezer apostolv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ég a legküssebb körömszikráját se kapom  bűnb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bizony várják az angyalok mennyországba, ámmen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Gyimesfelsől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838080" y="12952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838080" y="129528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743200" y="1828800"/>
            <a:ext cx="7086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04920" y="609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990033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990033"/>
                </a:solidFill>
                <a:latin typeface="Arial"/>
              </a:rPr>
              <a:t>protestáns vidékek</a:t>
            </a:r>
            <a:r>
              <a:rPr b="0" lang="hu-HU" sz="1800" spc="-1" strike="noStrike">
                <a:solidFill>
                  <a:srgbClr val="990033"/>
                </a:solidFill>
                <a:latin typeface="Arial"/>
              </a:rPr>
              <a:t> szövegeinek jelentősé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267080" y="388620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Ó, én Uram Teremtő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ikor engem teremtetté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ent Lelkeddel, szeretettel (sic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ent véreddel megváltottá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érlek Uram téged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ogadj hozzád enge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alálomnak óráj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Vajdakamarás – Mezősé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04920" y="1295280"/>
            <a:ext cx="373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Én Uram Teremtő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ikor ingem teremté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én Uram Teremtő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ikor ingem terem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ent lelkedvel szeretté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ent véredvel megvájtál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ent lelkedvel szeretté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ent véredvel megvájt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ogadzs hozzám (!), Urisztenem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ogadzs hozzám, Uriszten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zabófalva – északi csángók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80880" y="457200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z archaikus népi imádságok szövegei </a:t>
            </a:r>
            <a:r>
              <a:rPr b="1" lang="hu-HU" sz="1800" spc="-1" strike="noStrike">
                <a:solidFill>
                  <a:srgbClr val="990033"/>
                </a:solidFill>
                <a:latin typeface="Arial"/>
              </a:rPr>
              <a:t>középkori eredetűek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, ugyanis a protestáns vidékeken felbukkanó imák nem keletkezhettek a reformáció ut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4270680" y="1295280"/>
            <a:ext cx="43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Ó, én Uram Teremtő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ikor engem teremté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ent lelkeddel szeretté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ent véreddel megváltott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rra kérlek, Úrist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alálomnak óráj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Vedd hozzám [sic!] az én bűnös lelkem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Mezőkeszü – Mezősé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609480" y="533520"/>
            <a:ext cx="80773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0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Az imitatio Christi eszmei lénye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8000"/>
                </a:solidFill>
                <a:latin typeface="Arial"/>
              </a:rPr>
              <a:t>= a krisztusi szenvedéstörténettel való azonosu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érdemszerző erő: a kegyelmi állapot elér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áldozatvállalás, nehézségek elfoga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megtisztulás vág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0033"/>
                </a:solidFill>
                <a:latin typeface="Arial"/>
              </a:rPr>
              <a:t>Jellemző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érzelmi átélés, szenvedély, sí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észletező jelleg, számmisz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pokrif evangéliumi hagyomány jelenlé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60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épi elemek jelenlé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80880" y="228600"/>
            <a:ext cx="46483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0033"/>
                </a:solidFill>
                <a:latin typeface="Arial"/>
              </a:rPr>
              <a:t>A passióepika képei: szövegek és vizuális ábrázol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8000"/>
                </a:solidFill>
                <a:latin typeface="Arial"/>
              </a:rPr>
              <a:t>Búsuló Krisztus, gyász-jegyekk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- székében ülve kertben vagy mennyei templomban/ház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írva, könnyét/vérét hulla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- „térdig vérben, könyökig könnyb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aja leeresztve”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- színe szomorodva/megváltoz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- „feje meghajtva/leereszt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assio-Csík-Busulo_Kr"/>
          <p:cNvPicPr/>
          <p:nvPr/>
        </p:nvPicPr>
        <p:blipFill>
          <a:blip r:embed="rId1"/>
          <a:stretch/>
        </p:blipFill>
        <p:spPr>
          <a:xfrm>
            <a:off x="5410080" y="457200"/>
            <a:ext cx="276696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5029200" y="5499000"/>
            <a:ext cx="373392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síkszentgyörgy, 1520-15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Csíki Székely Múzeum gyűjteményében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− Forrás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www.csszm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993600" y="3124080"/>
            <a:ext cx="269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zent székibe leülv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zent szüve szomorod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zent szüve komorodv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z ugy isz ugy szir val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ogdánfalva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– Moldv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072080" y="5105520"/>
            <a:ext cx="413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Így ül vala kerekkőbe, kápolnáb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érgyig álló vérbe, könyökig könnyüb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Bogdánfalva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– Moldva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04920" y="30492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008000"/>
                </a:solidFill>
                <a:latin typeface="Arial"/>
              </a:rPr>
              <a:t>A kőoszlophoz kötözött Krisztus megostorozá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Passio-Almakerek4"/>
          <p:cNvPicPr/>
          <p:nvPr/>
        </p:nvPicPr>
        <p:blipFill>
          <a:blip r:embed="rId1"/>
          <a:stretch/>
        </p:blipFill>
        <p:spPr>
          <a:xfrm>
            <a:off x="5029200" y="762120"/>
            <a:ext cx="37720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5181480" y="60199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lmakerék, 14. sz. v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57200" y="762120"/>
            <a:ext cx="4114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harmadikján megfogta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Kőhöz, lophoz lophozta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vas ostorval ostorozta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vas keccsüvel keccsüztek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Bálványos – Gy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az oszlophoz megkötén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vas láncsákval csapdosána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döhös nyálukval köpdösének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Bükkhavas – Gy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őoszlophoz kötözt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s ostorval csabbodta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as dárdákval liggattak</a:t>
            </a:r>
            <a:r>
              <a:rPr b="0" i="1" lang="hu-HU" sz="2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Lészped – Moldv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609480" y="4800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Arial"/>
              </a:rPr>
              <a:t>Az oszlophoz kötözö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Arial"/>
              </a:rPr>
              <a:t>Krisztus vesszőzése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orzfalva (Borzeşti/Oneşti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6. száz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aját felvéte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04920" y="91440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harmadik napján megfogának, vas vesszővel vesszőzén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vas ostorokval ostorozának”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Vizánt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200" y="2819520"/>
            <a:ext cx="313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vas ostorokval ostorozták, vas seprükvel seprüzté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vas keccsükvel csabbodtá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üdös nyálakval töpdösték”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Pusztin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04920" y="380880"/>
            <a:ext cx="342900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8000"/>
                </a:solidFill>
                <a:latin typeface="Arial"/>
              </a:rPr>
              <a:t>Krisztus hajának húzása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úf jiduk levelet küldtek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zent péntekre felfonna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út nyálakval töpdösnek,  vaskescsükvel szabdasnak,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jant húzna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dzsan sufolkonnak.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zabófalv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– Mold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5181480"/>
            <a:ext cx="28958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sztus ostorozása. Oltárkép, 1514. Magyar Nemzeti Gal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− Forrás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www.hung-art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1143000" y="58672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árszárny, 1510 körül -- Garamszentbened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4960" y="457200"/>
            <a:ext cx="332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8000"/>
                </a:solidFill>
                <a:latin typeface="Arial"/>
              </a:rPr>
              <a:t>Krisztus hajának húzása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28600" y="1143000"/>
            <a:ext cx="4419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zsidók megfogtá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gödörbe taszigáltá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szent haját tépázták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ent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szakállát kiszedték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Gyimesközépl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rany szent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haját leeresztették vala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rany szent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szakállát szaggassák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va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tövis koronákval koronázzák va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vas láncsákval feszegetik val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Tatros – Moldv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80880" y="457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8000"/>
                </a:solidFill>
                <a:latin typeface="Arial"/>
              </a:rPr>
              <a:t>Krisztus szakállának tép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04920" y="114372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zen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zakállát szaggassák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Gyi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rany szent haját leeresztették val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rany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zent szakállát szaggassák vala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övis koronákval koronázzák vala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zitás – Mold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8600" y="1143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úf jiduk nagypinteken nagy irászt küldinek, /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ritta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adzsond akarnak súfalkadni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Szabófalva – Moldv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57200" y="304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8000"/>
                </a:solidFill>
                <a:latin typeface="Arial"/>
              </a:rPr>
              <a:t>Krisztus csúfolása (chariva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52280" y="2438280"/>
            <a:ext cx="283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rút nyálakval töpdösnek,  vaskescsükvel szabdasnak,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jant húznak, /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adzsan sufolkonnak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zabófalva – Moldv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NEKELT ARCHAIKUS NÉPI IMÁD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bófalva, 1991. – Szeszku (Püsle) Ferencné Pers Mária, szül. 19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Gyöngyökkel gyökerezté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 FV.01. 27−30 és 37−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engitének menyországb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engitének menyországb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idzsülének ez andzsalo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ihallgaták e szentmiszé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imenének e Kálvári hed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Uljan szip dzsümülcsvel fa leveledzi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randzs virvel felvirágăzv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risztusz urunkval megdzsümülsöz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lmenének e Krisztusz házáhaz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risztusz háza arangyasz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risztusz bémenen e Gicimán kercsi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leüle z aran székib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ent kezeivel felfogv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ent hajá leeresz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uljan szumurudotand ész megszírv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ltálále Szent Szép Szűzmári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étt ülsz uljan szumurudottan, szent fija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odne üljek e Szentanyá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úf jiduk nagypinteken nagy irászt küldin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rittam nadzsond akarnak súfalkadni!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052360" y="609480"/>
            <a:ext cx="40442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8000"/>
                </a:solidFill>
                <a:latin typeface="Arial"/>
              </a:rPr>
              <a:t>A Grál-jelképi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hullott a Jédus v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 szent keresztfa tövi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rágalátos szent testirő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öt méjséges sebeirő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édus mondá az angyaln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idd fel mennben szent atyámn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ondjad, keresztfámról küldt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ogadja kedvesen töllem.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Lujzikalagor – Mold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iérvel iccada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ervel cseppe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 angyalok felgyité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(j)Ézus elejibe vivék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Kákova – Mold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2438280" y="609480"/>
            <a:ext cx="4419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8000"/>
                </a:solidFill>
                <a:latin typeface="Arial"/>
              </a:rPr>
              <a:t>A három Mária a keresztfa alatt (Mettertia-ké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Előttem a Jóist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három Márja körüllem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Urangyala utánnam”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Gyimesbük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523880" y="152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8000"/>
                </a:solidFill>
                <a:latin typeface="Arial"/>
              </a:rPr>
              <a:t>Három Mária-motívum és Grál-motí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2590920" y="12952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risztus urunkot feszitti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három Márja sirattya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Nógrádmegyer --   Erdélyi 1976. 78. szö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590920" y="2865600"/>
            <a:ext cx="38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Lehullott a Jédus vé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szent keresztfa tövi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[...]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szent angyalok felszedték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lázatosan tisztelté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Jédus mondá az angyalna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vidd fel mennben szent atyámna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ondjad, keresztfámról küldt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ogadja kedvesen töllem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Lujzikalag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159920" y="1002600"/>
            <a:ext cx="4809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8000"/>
              </a:buClr>
              <a:buFont typeface="Arial"/>
              <a:buChar char="•"/>
              <a:tabLst>
                <a:tab algn="l" pos="10358136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8000"/>
                </a:solidFill>
                <a:latin typeface="Arial"/>
              </a:rPr>
              <a:t>Krisztus mint a keresztfa gyümölcse</a:t>
            </a:r>
            <a:r>
              <a:rPr b="1" i="1" lang="hu-HU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8000"/>
              </a:buClr>
              <a:buFont typeface="Arial"/>
              <a:buChar char="•"/>
              <a:tabLst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Uljan szip dzsümülccsel fa leveledzik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randzs virvel felvirág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zv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risztusz urunkval megdzsümülsöz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Elmenének e Krisztusz házáha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risztusz háză arandzsasz!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Szabófalva – Moldv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3086280" y="2362320"/>
            <a:ext cx="2133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Lelkemet ajánl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ngyalok kezikb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ogy felvitessen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Jóisten elejibe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Dormánfalva – Moldv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00400" y="3808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8000"/>
                </a:solidFill>
                <a:latin typeface="Arial"/>
              </a:rPr>
              <a:t>Krisztus lelkét angyalok viszik menny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971800" y="299160"/>
            <a:ext cx="3048120" cy="63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0358136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8000"/>
                </a:solidFill>
                <a:latin typeface="Arial"/>
              </a:rPr>
              <a:t>Égi mise: a lélek mennybeju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as mennybe csenditének,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 az angyalok kigyülének,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aranyos misét hallgatának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z Urjézus Krisztuskával egyetemben együtt, á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Szitás – Mold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özepibe egy ótár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z ótárkán egy levél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yújcs kezet Már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yiccs ajtót angy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menjünk szenmise hallgatn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, á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Diószeg – Mold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098880" y="533520"/>
            <a:ext cx="3429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Égi mise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enyországba csenditén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ngyalok elmenén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rany misét hallgatá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Szent Péter Szent Páll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misét mond v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Jézus Krisztus átol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 á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Újfalu – Moldv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762120" y="5335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609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5800" y="152280"/>
            <a:ext cx="7848720" cy="62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0033"/>
                </a:solidFill>
                <a:latin typeface="Arial"/>
              </a:rPr>
              <a:t>Következtetések, kérdé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középkori „festett univerzum” létezik, képi világa gazda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képek az Európa-szerte egyetemes középkori katolicizmus szellemi örökségéhez tartozna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rimátus kérdése: a festett univerzum a szövegvilág megfelelője. Ugyanazokat a képeket a két párhuzamos médiumban egyszerre ábrázolták vizuálisan és szövegszerűe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öveg és kép kapcsolata? (kölcsönhat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Bibliához való viszony: 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pokrif vagy kanonizál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kép nem informatív, hanem meditációra késztet, a kép több, mint szemléltető eszkö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ép és érzelem (érzelmet fejez ki, érzelmet vált 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képek együttese hat, az elrendezés nem szukcesszív, anakronizmusok vannak benne, szinkronitás jellemzi. A keresztény időben </a:t>
            </a:r>
            <a:r>
              <a:rPr b="1" i="1" lang="hu-HU" sz="2000" spc="-1" strike="noStrike">
                <a:solidFill>
                  <a:srgbClr val="008000"/>
                </a:solidFill>
                <a:latin typeface="Arial"/>
              </a:rPr>
              <a:t>minden egyszerre van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lyik univerzum kép- és motívumanyaga gazdagab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átfát keresztbe tedzsi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vasz kironokval felszegezzen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tüzesz osztorokval ingemet osztorozzana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tüzesz kestyükvel z én testemet szabdaljá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rút nyálăkvăl töpdösszönök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enj el, Szent Anyá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z Ádámnak a fioiha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vidd le ezt e két-hárum szú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i elmondzsa e régvel e felkeléssziné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ösztö lefekissziné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üzzi válik, mind e Szent Szűz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Jézusz, Jézusz kerálo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lejék nekem dzsomol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dzsalo testem nyugodzsi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üvem el ne aladzsi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Z apasztal ez ablakb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oldogszág ez ejtób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erül[d] kereszt házomot, / őrőzd andzsal lelkem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685800" y="304920"/>
            <a:ext cx="7772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ászló Józsefné Kis Erzsébet (szül. 1935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rchaikus népi imádsá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sztina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FD.09/1. kazetta, 06,30-20.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06.30. „Dicsőséges szent arangyos szent vasárnap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06.50. „Én felkelék az én ágyamból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09.00. „Mennyországba csengetének..” (kétszer elmond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1.20. „Né, hol áll az áldott Úrjézus.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1.50. „Ma van szent péntek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2.40. „Názáreti Jézus Krisztusunk kijöve szent házából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4.20.  Az imatanulás és imavégzés körülmény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7.25. Szent Antal-ima: „Valaki csodát akarsz keresni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04920" y="685800"/>
            <a:ext cx="4190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0033"/>
                </a:solidFill>
                <a:latin typeface="Arial"/>
              </a:rPr>
              <a:t>4. Archaikus népi imádság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űfaj felfedezé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Arial"/>
              </a:rPr>
              <a:t>Erdélyi Zsuzsann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1968. december 17. − Nagyberény, Somogy vm., Babos Jánosné Ruzics Rozália, szül. 187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űfaj „keresztelője”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970. febr. 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űfajmegnevezés: </a:t>
            </a:r>
            <a:r>
              <a:rPr b="1" i="1" lang="hu-HU" sz="2000" spc="-1" strike="noStrike">
                <a:solidFill>
                  <a:srgbClr val="008000"/>
                </a:solidFill>
                <a:latin typeface="Arial"/>
              </a:rPr>
              <a:t>archaikus (apokrif) népi imádság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− Korreferátumok: Pais Dezső (nyelvész), Ortutay Gyula (folklorista), Mezey László (irodalomtörténész), Holl Béla (népénekkutat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ErdZs_BabosJ"/>
          <p:cNvPicPr/>
          <p:nvPr/>
        </p:nvPicPr>
        <p:blipFill>
          <a:blip r:embed="rId1"/>
          <a:stretch/>
        </p:blipFill>
        <p:spPr>
          <a:xfrm>
            <a:off x="5334120" y="450720"/>
            <a:ext cx="3429000" cy="305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ErdZs-gyujt-1986_Tolna"/>
          <p:cNvPicPr/>
          <p:nvPr/>
        </p:nvPicPr>
        <p:blipFill>
          <a:blip r:embed="rId2"/>
          <a:stretch/>
        </p:blipFill>
        <p:spPr>
          <a:xfrm>
            <a:off x="4724280" y="3686040"/>
            <a:ext cx="4057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380880"/>
            <a:ext cx="30481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Erdélyi Zsuzsanna gyűjtése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Hegyet hágék, lőtőt lépé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Bp., 19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990033"/>
                </a:solidFill>
                <a:latin typeface="Arial"/>
              </a:rPr>
              <a:t>Nemzetközi európai összefüggés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Kotula, Franciszek: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Znaki przeszłośc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Warszava, 19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Novak, Vilko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lovenske ljudske molitv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jubljana, 19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egyet_hágék"/>
          <p:cNvPicPr/>
          <p:nvPr/>
        </p:nvPicPr>
        <p:blipFill>
          <a:blip r:embed="rId1"/>
          <a:stretch/>
        </p:blipFill>
        <p:spPr>
          <a:xfrm>
            <a:off x="4238640" y="380880"/>
            <a:ext cx="4532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685800" y="533520"/>
            <a:ext cx="40384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6812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0033"/>
                </a:solidFill>
                <a:latin typeface="Arial"/>
              </a:rPr>
              <a:t>Erdélyi és moldvai csáng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6812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0033"/>
                </a:solidFill>
                <a:latin typeface="Arial"/>
              </a:rPr>
              <a:t>népi imagyűjtés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6812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llós Zol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. Gurzó Anaklét és kö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alamon Anik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ékely Lász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. Daczó Árpád Luká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áduly Já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Zsók Bé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8120"/>
                <a:tab algn="l" pos="28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ánczos Vil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6094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04920" y="1522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0033"/>
                </a:solidFill>
                <a:latin typeface="Arial"/>
              </a:rPr>
              <a:t>Az archaikus népi imádságok szerkezete, logiká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8000"/>
                </a:solidFill>
                <a:latin typeface="Arial"/>
              </a:rPr>
              <a:t>= a passióepika felidézése (imitatio Christi) és az üdvözülés ígérete az imazáradékok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447920" y="1295280"/>
            <a:ext cx="7010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i van ma? Mi van m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zentséges szent péntek, ugyanannak a nap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risztus urunk mene kénjá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énján esett esetty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öt méjséges se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Három ágon orgonáln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agos mennybe hangosság 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imenék ajtóm elejib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feltekintek magos menny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Ott látok egy arany kápolná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üjjel irgalmas, belől kegyelm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égy szegibe négy aranykeresz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özepibe aranyszé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Ott sír a mü urunk Jézus Krisz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Gyenge szive szomorod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rany haja leereszt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447920" y="304920"/>
            <a:ext cx="7238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Odamene Szent Lukács évángélis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zt kérdezte: Mé sírsz, mü urunk Jézus Kriszt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Hogyne sírnék, amikor az én szent Atyámtól el van rende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ét nap üldözn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harmadnapján megfogn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álvária hegyre kihajtn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őlopokhoz megkötözn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vas ostorval ostorozn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zentséges szent fejemet tövisvel koronájzá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zentséges szent két kezem kétfelé hajcsá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vas szegekvel átol szegezi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zentséges szent véremet elereszti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zentséges szent két lábomot egymásra hajcsá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vas szegekvel átszegezi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zentséges szent ódalamból szentséges szent vére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vashargakval kiereszti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ötven pár bihalval huzatnak egy követ, s rámtetet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nczos</cp:lastModifiedBy>
  <dcterms:modified xsi:type="dcterms:W3CDTF">2014-11-25T07:34:17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